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2A3FD-CB2F-4D11-8BF8-C860381FC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215DD-F6C1-41BC-A4D3-7DEE617FF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1B61-1A64-4246-A4C9-C157246DC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A60EC-D3A2-4D34-90AF-67DD34232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14C77-0F97-4278-8B2F-67BBD7BDD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2775E-D547-4B9A-8ED6-1A9B7EED3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9A8CA4-3740-458B-95D3-616AE7A0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C73AD-C4DB-40C8-9A6E-F25BF42A4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4BBEF-B6AE-4DE7-A8C5-55E5B686E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E45F-CDB4-4A03-99E7-46AF3DFCB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8A72C-5114-45BC-9618-5A13E79E7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7456-6AA8-4108-8D33-C2A38F873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B42F6-E99A-4F3D-8DAE-DC7458568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2550A-02F3-4E98-9642-6F2B85E31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F6C5E-3965-42F6-ADF7-38F97D6E2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B860-E593-45C5-91B8-996B6EEEB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F80E-9555-4300-BCBF-E8E0B720B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CE85F-D083-446F-BE2E-E6D56DA58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65808D-9996-4C6A-8898-96F190AA7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79803B-561B-4CCA-B8EF-EBF5099E2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9F851-C2A4-42B0-9AD9-4AA97C390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3992CF-1784-4DF0-99BF-75E47861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4E2F-6B7F-49C1-94DE-808C519C3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00F43-AE2C-449C-8E00-68B5FBD87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89C7E7-35A7-49E5-9EA5-8D3489D15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3BA7F9-B01D-43E5-8A82-047571CC0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C86DB-086E-4B3D-B797-BF5B9CA1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AC5F8F-FA6C-4A0B-A842-16A2A439E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2B81F9-E9BD-4822-964C-9178F6E8F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3EF54A-B9C0-4745-9B82-D6D0FC0AF7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01D200-4F0A-4240-B99E-AD99E0CE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504E8B-1CDA-45A4-A01B-CD7354D87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2A028A-386B-4E0C-84EF-1F8C52E6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0AC6-8FB4-44C2-AC09-1B75C6E8B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756D05-68C3-4230-A449-5D6B734C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C49EA7-AECB-486F-AA88-132B4EC1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DB238-E90C-435A-B401-B3744CB1C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4057E0-2F13-4D57-86EE-85DE3AF7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A737A2-996F-4652-99AA-CBF371104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C993C-0CC7-477C-AAE1-FE7B362C7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B92412-1A55-45E6-B9BC-BB581E58C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703CF-F0BD-4EDF-BA8F-4F28FC83E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0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1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0D18E4-AC94-49BA-A587-1E61C410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8C5EFB-3AC2-4430-BD1D-35851F5E2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AB19-BBE4-4414-BEDD-5ED36E835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3EE6DD-DF05-4D53-8AB2-1F0393551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2ADD9A-C949-4A12-BC15-DF270E8BB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482C743-CE3F-4617-A85F-D9BFFBD8B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A1E51F-1E19-44B5-B702-4605AA50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C5D93A-0131-4464-B534-4274BCEB0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1CBD0F-0CBE-4A78-8CA5-11B6FD02C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A3D92-9D84-44DC-A36D-A7DB88508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34BA92A-A49F-49C2-9127-C4559946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1280DF-3555-43C0-B9A8-E4A9ED77F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FF97F4-C91F-4F0F-A9FD-47A524A1C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400" y="2743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53C5-209B-4807-B25D-22A459322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354240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6170040" y="14479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914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/>
          </p:nvPr>
        </p:nvSpPr>
        <p:spPr>
          <a:xfrm>
            <a:off x="354240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7" name="PlaceHolder 7"/>
          <p:cNvSpPr>
            <a:spLocks noGrp="1"/>
          </p:cNvSpPr>
          <p:nvPr>
            <p:ph/>
          </p:nvPr>
        </p:nvSpPr>
        <p:spPr>
          <a:xfrm>
            <a:off x="6170040" y="38361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2C080DB-12E8-4E76-89EF-08D61D644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291A-9822-40B0-888C-1822CCC27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97080" y="38361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D199-98AF-4763-AE1B-8D5E30B7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4479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14400" y="38361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7EB3C-BFBD-4657-BE3E-AFA50A24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CC51C-0D1E-4FAF-B731-97F4832A7779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4" name="圓角矩形 10"/>
          <p:cNvSpPr/>
          <p:nvPr/>
        </p:nvSpPr>
        <p:spPr>
          <a:xfrm>
            <a:off x="65160" y="69840"/>
            <a:ext cx="9013680" cy="669132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5" name="矩形 11"/>
          <p:cNvSpPr/>
          <p:nvPr/>
        </p:nvSpPr>
        <p:spPr>
          <a:xfrm>
            <a:off x="63360" y="1449360"/>
            <a:ext cx="9020160" cy="152712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6" name="矩形 12"/>
          <p:cNvSpPr/>
          <p:nvPr/>
        </p:nvSpPr>
        <p:spPr>
          <a:xfrm>
            <a:off x="63360" y="1397160"/>
            <a:ext cx="9020160" cy="12060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63360" y="2976480"/>
            <a:ext cx="9020160" cy="11124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87F36-5C13-4904-8645-0693D829B1B1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grpSp>
        <p:nvGrpSpPr>
          <p:cNvPr id="90" name="圓角矩形 10"/>
          <p:cNvGrpSpPr/>
          <p:nvPr/>
        </p:nvGrpSpPr>
        <p:grpSpPr>
          <a:xfrm>
            <a:off x="66600" y="66600"/>
            <a:ext cx="9016920" cy="6699240"/>
            <a:chOff x="66600" y="66600"/>
            <a:chExt cx="9016920" cy="6699240"/>
          </a:xfrm>
        </p:grpSpPr>
        <p:pic>
          <p:nvPicPr>
            <p:cNvPr id="91" name="圓角矩形 10" descr=""/>
            <p:cNvPicPr/>
            <p:nvPr/>
          </p:nvPicPr>
          <p:blipFill>
            <a:blip r:embed="rId3"/>
            <a:stretch/>
          </p:blipFill>
          <p:spPr>
            <a:xfrm>
              <a:off x="66600" y="66600"/>
              <a:ext cx="9016920" cy="6699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162000" y="166680"/>
              <a:ext cx="8820000" cy="649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Perpetua"/>
              </a:endParaRPr>
            </a:p>
          </p:txBody>
        </p:sp>
      </p:grpSp>
      <p:sp>
        <p:nvSpPr>
          <p:cNvPr id="93" name="矩形 11"/>
          <p:cNvSpPr/>
          <p:nvPr/>
        </p:nvSpPr>
        <p:spPr>
          <a:xfrm flipV="1">
            <a:off x="69840" y="2376000"/>
            <a:ext cx="9013680" cy="921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69840" y="2341440"/>
            <a:ext cx="901368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5" name="矩形 14"/>
          <p:cNvSpPr/>
          <p:nvPr/>
        </p:nvSpPr>
        <p:spPr>
          <a:xfrm>
            <a:off x="68400" y="2468520"/>
            <a:ext cx="9015120" cy="4608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800280" y="6172200"/>
            <a:ext cx="4000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8016-DBA6-46F3-91A5-6E2E2599DA85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8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39" name="矩形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0" name="圓角矩形 10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 type="dt" idx="10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 type="ftr" idx="11"/>
          </p:nvPr>
        </p:nvSpPr>
        <p:spPr>
          <a:xfrm>
            <a:off x="914040" y="6172200"/>
            <a:ext cx="396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 type="sldNum" idx="12"/>
          </p:nvPr>
        </p:nvSpPr>
        <p:spPr>
          <a:xfrm>
            <a:off x="213120" y="62773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F8089-43CC-4E34-91AA-C499F16CDE9C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矩形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3" name="圓角矩形 7"/>
          <p:cNvSpPr/>
          <p:nvPr/>
        </p:nvSpPr>
        <p:spPr>
          <a:xfrm>
            <a:off x="63360" y="69840"/>
            <a:ext cx="9014040" cy="6692760"/>
          </a:xfrm>
          <a:prstGeom prst="roundRect">
            <a:avLst>
              <a:gd name="adj" fmla="val 4931"/>
            </a:avLst>
          </a:prstGeom>
          <a:noFill/>
          <a:ln cap="sq"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4" name="矩形 9"/>
          <p:cNvSpPr/>
          <p:nvPr/>
        </p:nvSpPr>
        <p:spPr>
          <a:xfrm flipV="1">
            <a:off x="68400" y="4682160"/>
            <a:ext cx="9007200" cy="9180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5" name="矩形 10"/>
          <p:cNvSpPr/>
          <p:nvPr/>
        </p:nvSpPr>
        <p:spPr>
          <a:xfrm>
            <a:off x="68400" y="4649760"/>
            <a:ext cx="9007200" cy="46080"/>
          </a:xfrm>
          <a:prstGeom prst="rect">
            <a:avLst/>
          </a:prstGeom>
          <a:solidFill>
            <a:srgbClr val="e6b1a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6" name="矩形 11"/>
          <p:cNvSpPr/>
          <p:nvPr/>
        </p:nvSpPr>
        <p:spPr>
          <a:xfrm>
            <a:off x="68400" y="4773600"/>
            <a:ext cx="9007200" cy="47520"/>
          </a:xfrm>
          <a:prstGeom prst="rect">
            <a:avLst/>
          </a:prstGeom>
          <a:solidFill>
            <a:srgbClr val="9184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Click to edit the title text format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1" marL="547560" indent="-228600">
              <a:spcBef>
                <a:spcPts val="575"/>
              </a:spcBef>
              <a:buClr>
                <a:srgbClr val="9b2d1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2" marL="822240" indent="-228600">
              <a:spcBef>
                <a:spcPts val="575"/>
              </a:spcBef>
              <a:buClr>
                <a:srgbClr val="e6b1ab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3" marL="1096920" indent="-228600">
              <a:spcBef>
                <a:spcPts val="575"/>
              </a:spcBef>
              <a:buClr>
                <a:srgbClr val="a28e6a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4" marL="1371600" indent="-228600">
              <a:spcBef>
                <a:spcPts val="575"/>
              </a:spcBef>
              <a:buClr>
                <a:srgbClr val="a28e6a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5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  <a:p>
            <a:pPr lvl="6" marL="1371600" indent="-228600">
              <a:spcBef>
                <a:spcPts val="575"/>
              </a:spcBef>
              <a:buClr>
                <a:srgbClr val="000000"/>
              </a:buClr>
              <a:buFont typeface="Perpet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Perpetu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dt" idx="13"/>
          </p:nvPr>
        </p:nvSpPr>
        <p:spPr>
          <a:xfrm>
            <a:off x="6171840" y="6190920"/>
            <a:ext cx="2476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ftr" idx="14"/>
          </p:nvPr>
        </p:nvSpPr>
        <p:spPr>
          <a:xfrm>
            <a:off x="914040" y="6172200"/>
            <a:ext cx="3886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erpetua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 type="sldNum" idx="15"/>
          </p:nvPr>
        </p:nvSpPr>
        <p:spPr>
          <a:xfrm>
            <a:off x="213120" y="6275520"/>
            <a:ext cx="323280" cy="32328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txBody>
          <a:bodyPr lIns="0" rIns="0" tIns="0" bIns="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B59B6-120E-481E-8E92-BB78CA611F43}" type="slidenum">
              <a:rPr b="0" lang="zh-TW" sz="1400" spc="-1" strike="noStrike">
                <a:solidFill>
                  <a:srgbClr val="ffffff"/>
                </a:solidFill>
                <a:latin typeface="Franklin Gothic Book"/>
                <a:ea typeface="微軟正黑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06240"/>
            <a:ext cx="8229600" cy="1469880"/>
          </a:xfrm>
          <a:prstGeom prst="rect">
            <a:avLst/>
          </a:prstGeom>
          <a:noFill/>
          <a:ln w="0">
            <a:noFill/>
          </a:ln>
        </p:spPr>
        <p:txBody>
          <a:bodyPr bIns="91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ffffff"/>
                </a:solidFill>
                <a:latin typeface="Franklin Gothic Book"/>
              </a:rPr>
              <a:t>福慧基金會報告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29" name="文字方塊 2"/>
          <p:cNvSpPr/>
          <p:nvPr/>
        </p:nvSpPr>
        <p:spPr>
          <a:xfrm>
            <a:off x="4859280" y="3284640"/>
            <a:ext cx="403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102</a:t>
            </a:r>
            <a:r>
              <a:rPr b="0" lang="zh-TW" sz="2400" spc="-1" strike="noStrike">
                <a:solidFill>
                  <a:srgbClr val="ff0000"/>
                </a:solidFill>
                <a:latin typeface="微軟正黑體"/>
                <a:ea typeface="微軟正黑體"/>
              </a:rPr>
              <a:t>學年度下學期會務報告</a:t>
            </a:r>
            <a:endParaRPr b="0" lang="en-US" sz="2400" spc="-1" strike="noStrike">
              <a:solidFill>
                <a:srgbClr val="000000"/>
              </a:solidFill>
              <a:latin typeface="Perpet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~</a:t>
            </a:r>
            <a:r>
              <a:rPr b="0" lang="zh-TW" sz="4400" spc="-1" strike="noStrike">
                <a:solidFill>
                  <a:srgbClr val="696464"/>
                </a:solidFill>
                <a:latin typeface="Franklin Gothic Book"/>
              </a:rPr>
              <a:t>感謝本學年福慧委員</a:t>
            </a:r>
            <a:r>
              <a:rPr b="0" lang="en-US" sz="4400" spc="-1" strike="noStrike">
                <a:solidFill>
                  <a:srgbClr val="696464"/>
                </a:solidFill>
                <a:latin typeface="Franklin Gothic Book"/>
              </a:rPr>
              <a:t>~</a:t>
            </a:r>
            <a:endParaRPr b="0" lang="en-US" sz="4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1403280" y="1628280"/>
            <a:ext cx="633744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會長：黃惠明 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總務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何新梅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輔導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游美月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、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張沛檥 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文書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林恩宇 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活動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陳怡蒨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 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機動組：</a:t>
            </a:r>
            <a:r>
              <a:rPr b="0" lang="zh-TW" sz="3600" spc="-1" strike="noStrike" u="sng">
                <a:solidFill>
                  <a:srgbClr val="000000"/>
                </a:solidFill>
                <a:uFillTx/>
                <a:latin typeface="微軟正黑體"/>
                <a:ea typeface="微軟正黑體"/>
              </a:rPr>
              <a:t>簡秀萍</a:t>
            </a:r>
            <a:r>
              <a:rPr b="0" lang="zh-TW" sz="3600" spc="-1" strike="noStrike">
                <a:solidFill>
                  <a:srgbClr val="000000"/>
                </a:solidFill>
                <a:latin typeface="微軟正黑體"/>
                <a:ea typeface="微軟正黑體"/>
              </a:rPr>
              <a:t>老師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2" name="Picture 11" descr="http://www.my-hiend.com/vbb/images/smilies/5.png"/>
          <p:cNvPicPr/>
          <p:nvPr/>
        </p:nvPicPr>
        <p:blipFill>
          <a:blip r:embed="rId1"/>
          <a:stretch/>
        </p:blipFill>
        <p:spPr>
          <a:xfrm>
            <a:off x="6659640" y="4508640"/>
            <a:ext cx="1886040" cy="17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800" spc="-1" strike="noStrike">
                <a:solidFill>
                  <a:srgbClr val="696464"/>
                </a:solidFill>
                <a:latin typeface="Franklin Gothic Book"/>
              </a:rPr>
              <a:t>本學年捐款收支：</a:t>
            </a:r>
            <a:endParaRPr b="0" lang="en-US" sz="48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771480" y="1484280"/>
            <a:ext cx="777240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本學期收入共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121,490</a:t>
            </a: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本學期支出共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74,403</a:t>
            </a: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借款：</a:t>
            </a:r>
            <a:r>
              <a:rPr b="0" lang="zh-TW" sz="3200" spc="-1" strike="noStrike">
                <a:solidFill>
                  <a:srgbClr val="000000"/>
                </a:solidFill>
                <a:latin typeface="Perpetua"/>
              </a:rPr>
              <a:t>健康中心「急難救助金」</a:t>
            </a:r>
            <a:r>
              <a:rPr b="0" lang="en-US" sz="3200" spc="-1" strike="noStrike">
                <a:solidFill>
                  <a:srgbClr val="000000"/>
                </a:solidFill>
                <a:latin typeface="Perpetua"/>
              </a:rPr>
              <a:t>15,000</a:t>
            </a:r>
            <a:r>
              <a:rPr b="0" lang="zh-TW" sz="3200" spc="-1" strike="noStrike">
                <a:solidFill>
                  <a:srgbClr val="000000"/>
                </a:solidFill>
                <a:latin typeface="Perpetua"/>
              </a:rPr>
              <a:t>元。</a:t>
            </a:r>
            <a:endParaRPr b="0" lang="en-US" sz="32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本學期餘額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47,087</a:t>
            </a: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目前總餘額</a:t>
            </a:r>
            <a:r>
              <a:rPr b="0" lang="en-US" sz="3600" spc="-1" strike="noStrike">
                <a:solidFill>
                  <a:srgbClr val="000000"/>
                </a:solidFill>
                <a:latin typeface="Perpetua"/>
              </a:rPr>
              <a:t>707,087</a:t>
            </a:r>
            <a:r>
              <a:rPr b="0" lang="zh-TW" sz="3600" spc="-1" strike="noStrike">
                <a:solidFill>
                  <a:srgbClr val="000000"/>
                </a:solidFill>
                <a:latin typeface="Perpetua"/>
              </a:rPr>
              <a:t>元</a:t>
            </a:r>
            <a:endParaRPr b="0" lang="en-US" sz="36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5" name="Picture 2" descr="http://www.my-hiend.com/vbb/images/smilies/159.png"/>
          <p:cNvPicPr/>
          <p:nvPr/>
        </p:nvPicPr>
        <p:blipFill>
          <a:blip r:embed="rId1"/>
          <a:stretch/>
        </p:blipFill>
        <p:spPr>
          <a:xfrm>
            <a:off x="5889600" y="260280"/>
            <a:ext cx="2790720" cy="20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696464"/>
                </a:solidFill>
                <a:latin typeface="Franklin Gothic Book"/>
              </a:rPr>
              <a:t>感恩</a:t>
            </a:r>
            <a:endParaRPr b="0" lang="en-US" sz="54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914400" y="1447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所有捐款老師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教師會上學期義賣所得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3,780</a:t>
            </a: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元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校外人士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(</a:t>
            </a: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游淡女士捐款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30,000</a:t>
            </a: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元，達利行潘太太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3,000</a:t>
            </a: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元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38" name="Picture 9" descr="http://www.my-hiend.com/vbb/images/smilies/144.png"/>
          <p:cNvPicPr/>
          <p:nvPr/>
        </p:nvPicPr>
        <p:blipFill>
          <a:blip r:embed="rId1"/>
          <a:stretch/>
        </p:blipFill>
        <p:spPr>
          <a:xfrm>
            <a:off x="5651640" y="4149720"/>
            <a:ext cx="245736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914400" y="274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bIns="9144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696464"/>
                </a:solidFill>
                <a:latin typeface="Franklin Gothic Book"/>
              </a:rPr>
              <a:t>傳承：請記得在選票上按</a:t>
            </a:r>
            <a:r>
              <a:rPr b="1" lang="zh-TW" sz="4800" spc="-1" strike="noStrike">
                <a:solidFill>
                  <a:srgbClr val="696464"/>
                </a:solidFill>
                <a:latin typeface="Franklin Gothic Book"/>
              </a:rPr>
              <a:t>讚</a:t>
            </a:r>
            <a:r>
              <a:rPr b="0" lang="en-US" sz="4000" spc="-1" strike="noStrike">
                <a:solidFill>
                  <a:srgbClr val="696464"/>
                </a:solidFill>
                <a:latin typeface="Franklin Gothic Book"/>
              </a:rPr>
              <a:t>~</a:t>
            </a:r>
            <a:endParaRPr b="0" lang="en-US" sz="4000" spc="-1" strike="noStrike">
              <a:solidFill>
                <a:srgbClr val="696464"/>
              </a:solidFill>
              <a:latin typeface="Franklin Gothic Book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55280" y="1773360"/>
            <a:ext cx="793116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575"/>
              </a:spcBef>
              <a:buClr>
                <a:srgbClr val="d3481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下屆委員推薦名單：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林恩宇、周桂英、曾國誌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王莉婷、張耕翰、李志偉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  <a:p>
            <a:pPr marL="272880" indent="-272880"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Perpetua"/>
              </a:rPr>
              <a:t>其他</a:t>
            </a:r>
            <a:r>
              <a:rPr b="0" lang="en-US" sz="4000" spc="-1" strike="noStrike">
                <a:solidFill>
                  <a:srgbClr val="000000"/>
                </a:solidFill>
                <a:latin typeface="Perpetua"/>
              </a:rPr>
              <a:t>…</a:t>
            </a:r>
            <a:endParaRPr b="0" lang="en-US" sz="4000" spc="-1" strike="noStrike">
              <a:solidFill>
                <a:srgbClr val="000000"/>
              </a:solidFill>
              <a:latin typeface="Perpetua"/>
            </a:endParaRPr>
          </a:p>
        </p:txBody>
      </p:sp>
      <p:pic>
        <p:nvPicPr>
          <p:cNvPr id="241" name="Picture 2" descr="H:\其他\圖資源\表情\各種表情1030619.jpg"/>
          <p:cNvPicPr/>
          <p:nvPr/>
        </p:nvPicPr>
        <p:blipFill>
          <a:blip r:embed="rId1"/>
          <a:srcRect l="33765" t="33740" r="33844" b="34503"/>
          <a:stretch/>
        </p:blipFill>
        <p:spPr>
          <a:xfrm>
            <a:off x="6012000" y="4076640"/>
            <a:ext cx="2369880" cy="23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4T06:05:30Z</dcterms:created>
  <dc:creator>讀者服務組</dc:creator>
  <dc:description/>
  <dc:language>en-US</dc:language>
  <cp:lastModifiedBy>TPC</cp:lastModifiedBy>
  <dcterms:modified xsi:type="dcterms:W3CDTF">2014-06-30T04:17:55Z</dcterms:modified>
  <cp:revision>32</cp:revision>
  <dc:subject/>
  <dc:title>福慧基金會報告</dc:title>
</cp:coreProperties>
</file>